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732A-0CC4-40CB-8A33-9F9B05E23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BEA6-205F-46DE-ADE0-158C3CE63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94DC-71CA-4B90-A2D7-832D77FF7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F71A-45C4-425F-874D-1935E183D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1DC6-0BDF-4707-960A-10023C6CF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CE8E-CA74-4941-9BFB-3AAB4B193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46FF-0EEA-4C6E-B9A4-7580EE91F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DEDA-5DCC-4034-BE95-88B9A17D4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09EA-1B83-4E88-8E17-3A19D4591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B4D3-AD1C-4C5F-95A4-7DEA82091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CDA9-2DB3-4193-A79B-DE139B755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9EEB-2B0A-43AE-9A99-EC507C0F7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E3F0-B9B7-4253-A8EB-5713EAF9E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4A10-A0AA-443F-A22F-16D25E3B8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1B93-B19D-496E-90B9-072A06C95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F283-7E00-49A8-8F66-FAE8E6D16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000C-8DAC-4041-BBC8-C15427678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169F-CFD3-4BB3-8C2C-F73803B54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3747-B770-4D1D-92C6-D67D908D7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EC1D-4DDF-4324-8E87-FADF6BF15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A58F-40C6-40C3-9C65-EE42CAD8C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166E-56F4-4525-88A5-288E0959F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58CB-D412-4918-A207-A6F1C99A1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A537-25A7-4EFE-B62A-59E82E2E4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6748-0A74-4596-8DEB-57DCD4CB8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5C8E-5F4D-4595-AB97-9D8D91D05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E7E9-2DC9-4935-B3E9-C7987CC80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AFC0-BBBC-4357-84F4-BAD7664B5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9B48-63BC-412B-8CEF-E2FC222B0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4892-A584-48C7-9573-14CE46924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2EEC-AF68-408D-B57A-D93302B9F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3D27-0563-4979-9322-A15A1E1DF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44F7-986C-4AF9-8853-66AF28604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E161-ECA6-423C-AC92-90E3E629D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0772-049C-43A9-A379-14076C742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D7A8-41EB-4E18-AF6F-72AB069CD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C131-0D51-4BFF-9D1B-69508618F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61AF-5C6A-478E-9059-32792F70B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CB78-3A6F-401A-B142-073133F3B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C279-F1D4-421A-A733-8612325CA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6F0A-273E-4A70-8BAF-3DCE9A69A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90E9-D7AD-4332-9217-78E0E8696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30B1-ED6B-4C66-A36C-F70B54883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5615-40C9-47D9-9D3B-B546ACC17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64F7-EFD7-44F1-A633-2A118CC00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F94B-D268-451F-901A-AB984A75E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273C-4468-446F-9DC6-799963FA9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AEC2-B975-4374-8A16-B6BACDD71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6A69-5B5F-4798-8FB6-82EB78DFF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89B8-DC56-4B34-AFD9-3114EAC5C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D69A-6E66-49FC-A1FC-AAD206AA1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4270-CF54-41EF-86AA-D840F2C97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064E-1418-42D2-B804-769057F7B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BDBA-F309-4386-9801-863823FF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927-0484-4C8F-BDC9-A7948762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07C-145A-43ED-B053-C62D82B7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0FA-7DB2-41AD-829C-3D5D9771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B880-F786-4CC5-88E0-B59A3DFF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DA62-54BA-49CF-B98E-7147A7B6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551A-91DE-4B90-ACB0-9E530B5A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29C5-87FF-4ABC-B55C-6306CB60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5F43-6FDF-453B-A516-C4B6F5B3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0061-079A-45C6-BB6F-5A84D69A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DA9D-8645-4144-9FFC-E829C33E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833-6E77-44AF-B763-73907863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5EFF-0DBE-4F4E-BCFF-724028A1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8320-F2E9-4785-9F13-5B7EB2E7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2792-7A0E-491D-93FA-38A848E3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36C0-C41D-432F-B24F-C56BF06A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5C2E-955A-4E53-8F55-586559E0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2E7-CA0B-4186-AA0B-F282A4AC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821-614E-45AD-80E0-C693FD5E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0F0-DCBC-4693-A60F-675A75AB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740-3EAB-40C3-A065-5697D1D3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D56-676E-4CCD-A8AC-19B046BB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18C-687C-4CA1-B662-25C97F8C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D14-C247-4413-8B79-C7712BC9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D3C8-0B05-4253-9EFD-44AA0FD2B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987480" y="4095720"/>
            <a:ext cx="7095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suffered a stro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adbury was born in 199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, he was born in 192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did not go to colleg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 or 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was married three tim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, he was only married one tim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died in Los Angles Californ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ue/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wa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Fahrenheit 451 written by Ra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/N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To kill a MockingBird written by R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 or n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the Pendulum written by Ra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/N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 it w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Something Wicked This Way Comes written by Ra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many kids did Ray hav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,2,3,or 4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 it w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once won a 2003 country music awar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got an impact crater on the moon named after one of his book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got a meteor named after hi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got a rover landing site named after him on the planet Ma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/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had 4 k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as Ray’s wife’s nam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san, Marguerite, Molly, Margaret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’s wife’s name is Marguerit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adbury was friends with what creator of a famous movie seri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e Roddenberry(Star Trek), George Lucas(Star Wars), or J.K Rowling( Harry Pott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e Roddenber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happened to Ray in 1999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suffered a stroke, He was diagnosed with cancer, he had to get operated 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mormat17</cp:lastModifiedBy>
  <dcterms:modified xsi:type="dcterms:W3CDTF">2013-11-01T16:59:42Z</dcterms:modified>
  <cp:revision>25</cp:revision>
  <dc:subject>Jeopardy Template</dc:subject>
  <dc:title>POWERPOINT JEOPARDY</dc:title>
</cp:coreProperties>
</file>